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B2B5-E950-471F-BE69-6AFDB1EB9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B5BF-2878-4920-BC18-DBB1C4373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B501-91D8-4F6D-8DB8-DA6ED2037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5C4D-189F-40C8-954C-F09C167D4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FC30B-BC81-4EC2-BA78-6F93376DFA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88C88-5E7F-4A51-BCFF-CA2BAE9D58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B5ED5-9D6E-42D1-860C-A348FEBEDC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1C957-D53F-48F9-A542-AC06DC9A92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8BC4D-653D-41F0-AE78-70F563753B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C31DE-8611-4EE0-8D55-B84B13E93A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452A0-98A9-469F-BABB-3A531DE99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8417-2C5E-443C-B359-E793EE2C6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D20AC-D31F-4E9D-AAAD-95D89F6826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12441-FD9A-407B-85F1-5F98F52942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34C49-51A7-4FAE-A07F-E81A4723E0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F5DA-C71B-42E0-A9C3-E5930B424E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AC8A5-BD90-4D2A-933B-B830FC273F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8947-094A-4DC5-A875-754A43BD2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F813-D0A6-4979-97EF-7BD0C3D41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8560-4537-4059-BCB5-4DDA1CEE1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38ABD-DE0C-4735-8A51-4C5C5D72E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A3A9-94E9-4D13-A668-514F9158D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4301-E4DC-4CC8-83F2-472C244EB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DECB-6A03-400A-9C02-A6C1F76EC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057400" y="6248520"/>
            <a:ext cx="5029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52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F673-B16F-4DD0-96D7-91378B349A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2209680" y="6248520"/>
            <a:ext cx="4724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67CA-2C7A-4B61-B339-EF42970436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352680"/>
            <a:ext cx="9144000" cy="914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0481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</a:rPr>
              <a:t>CHEMISTRY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Univers"/>
              </a:rPr>
              <a:t>World of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8862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4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Univers"/>
              </a:rPr>
              <a:t>    </a:t>
            </a:r>
            <a:r>
              <a:rPr b="0" lang="en-US" sz="4400" spc="-1" strike="noStrike">
                <a:solidFill>
                  <a:srgbClr val="ff0033"/>
                </a:solidFill>
                <a:latin typeface="Univers"/>
              </a:rPr>
              <a:t>Zumdahl  Zumdahl  DeCos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9907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9907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9:  The atmospheric C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concentration over the past 1000 year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Zumdahl10_09" descr=""/>
          <p:cNvPicPr/>
          <p:nvPr/>
        </p:nvPicPr>
        <p:blipFill>
          <a:blip r:embed="rId1"/>
          <a:stretch/>
        </p:blipFill>
        <p:spPr>
          <a:xfrm>
            <a:off x="304920" y="947880"/>
            <a:ext cx="8534160" cy="52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2D0B5-1253-41C6-B32D-01AA0AB5D6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10:  Comparing the entropies of ice and ste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Zumdahl10_10" descr=""/>
          <p:cNvPicPr/>
          <p:nvPr/>
        </p:nvPicPr>
        <p:blipFill>
          <a:blip r:embed="rId1"/>
          <a:stretch/>
        </p:blipFill>
        <p:spPr>
          <a:xfrm>
            <a:off x="1957320" y="533520"/>
            <a:ext cx="5229360" cy="579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4906-ABB4-4EFF-9A95-731CC74862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33"/>
                </a:solidFill>
                <a:latin typeface="Univers"/>
              </a:rPr>
              <a:t>Chapter 10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</a:rPr>
              <a:t>Energy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2:  Equal masses of hot and cold wa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Zumdahl10_02" descr=""/>
          <p:cNvPicPr/>
          <p:nvPr/>
        </p:nvPicPr>
        <p:blipFill>
          <a:blip r:embed="rId1"/>
          <a:stretch/>
        </p:blipFill>
        <p:spPr>
          <a:xfrm>
            <a:off x="1295280" y="627120"/>
            <a:ext cx="6477120" cy="56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1DD5-7DFB-42CB-B068-ACC3870BBF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3:  H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 molecules in hot and cold wa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Zumdahl10_03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6324480" cy="52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19BA-7CA9-4C9F-AD42-329B7E8F82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4:  H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 molecules in same temperature wa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Zumdahl10_0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C423-38EF-46F3-AC70-94ADB91D59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5:  The energy changes accompanying the burning of a match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Zumdahl10_05" descr=""/>
          <p:cNvPicPr/>
          <p:nvPr/>
        </p:nvPicPr>
        <p:blipFill>
          <a:blip r:embed="rId1"/>
          <a:stretch/>
        </p:blipFill>
        <p:spPr>
          <a:xfrm>
            <a:off x="304920" y="1455840"/>
            <a:ext cx="8534160" cy="39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3796-33A3-4885-8019-7C8FFA35C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6:  A coffee-cup calorimet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Zumdahl10_06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70836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8139-44F2-42E8-A747-8AB6628AF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7:  Energy sources used in the United Sta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Zumdahl10_07" descr=""/>
          <p:cNvPicPr/>
          <p:nvPr/>
        </p:nvPicPr>
        <p:blipFill>
          <a:blip r:embed="rId1"/>
          <a:stretch/>
        </p:blipFill>
        <p:spPr>
          <a:xfrm>
            <a:off x="304920" y="1730520"/>
            <a:ext cx="8610480" cy="342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07A17-2047-4D9B-8055-44669EDBFC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5a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gure 10.8:  The earth’s atmosphe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Zumdahl10_08" descr=""/>
          <p:cNvPicPr/>
          <p:nvPr/>
        </p:nvPicPr>
        <p:blipFill>
          <a:blip r:embed="rId1"/>
          <a:stretch/>
        </p:blipFill>
        <p:spPr>
          <a:xfrm>
            <a:off x="304920" y="1116000"/>
            <a:ext cx="8534160" cy="48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© by Houghton Mifflin Company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F8A9-426D-4ED4-873F-2A52A8FBC6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9:36:22Z</dcterms:created>
  <dc:creator>HMCO</dc:creator>
  <dc:description/>
  <dc:language>en-US</dc:language>
  <cp:lastModifiedBy>Cheryl</cp:lastModifiedBy>
  <dcterms:modified xsi:type="dcterms:W3CDTF">2005-12-20T09:06:38Z</dcterms:modified>
  <cp:revision>23</cp:revision>
  <dc:subject/>
  <dc:title>Figure 1.1 The various parts of the scientific method.</dc:title>
</cp:coreProperties>
</file>